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CFB-17E7-469D-8DCB-EDEADD00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95B-6866-432A-9B29-9FC3B3E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5F0-8A64-447D-9FBF-F76B9816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DDA-AD30-410C-940F-DC5B6AF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8E2-B351-4119-A1BE-0B5D7635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9A9-7A85-4F28-B255-82E5B9A6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0A8-F678-4AC6-B1CC-0CACE23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F58-EE61-485D-BF9B-2F65A74F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09F-C694-43F2-84A6-6C16D024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EF9-E9F9-421A-8508-C70200B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7ED-C977-4584-8351-0C75768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7E4-7698-4C5F-8A7D-CC3522A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FC0C-FC49-49E4-8827-45DF56D6D46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3 Pane môj, chcem kresťanom by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 chcem kresťanom byť pravdivým, pravdiv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 chcem kresťanom byť pravdi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divým, pravdiv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ane môj, chcem kresťanom byť pravdi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 sám pomôž mi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m, láskav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 sám pomôž mi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m, láskav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ane môj sám pomôž mi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 ja túžim vždy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ým, úprimn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 ja túžim vždy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ým, úprimný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ane môj, ja túžim vždy by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 chcem za tebou í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, deň čo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 chcem za tebou í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, deň čo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Pane môj, chcem za tebou í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eň čo deň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5:54:48Z</dcterms:modified>
  <cp:revision>28</cp:revision>
  <dc:subject/>
  <dc:title>Je veľký náš Pán, on slávy je Kráľ Nech do všetkých strán  spev vrúcnych znie chvál.</dc:title>
</cp:coreProperties>
</file>